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23328"/>
        <c:axId val="8870817"/>
      </c:barChart>
      <c:catAx>
        <c:axId val="71423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817"/>
        <c:crosses val="autoZero"/>
        <c:auto val="1"/>
        <c:lblAlgn val="ctr"/>
        <c:lblOffset val="100"/>
        <c:noMultiLvlLbl val="0"/>
      </c:catAx>
      <c:valAx>
        <c:axId val="8870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23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7B8-8258-49FD-B159-2B4C1EDD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AC9-1279-479C-B25B-2FC9034A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1EE-C418-490F-9DB1-B20E8C52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175-EA5E-4238-A10E-CDE81A66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0F5-408A-4FF0-B242-E1CE39D2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1C1-2FAB-4962-979C-9A8C5FF0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386-440D-425D-8096-3C0FC8EF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927-8E6D-4E44-AE03-3918BBEE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294-3175-4FA9-9C4A-F3DA8FE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560-F366-4FB5-BE31-5546AB6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3F1-0AA4-4B03-A2B0-40076921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DB1-A122-4C49-AC0B-529BC42A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A4FAC-932C-4595-83F9-433C7F550F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