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24702"/>
        <c:axId val="79403461"/>
      </c:barChart>
      <c:catAx>
        <c:axId val="86824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03461"/>
        <c:crosses val="autoZero"/>
        <c:auto val="1"/>
        <c:lblAlgn val="ctr"/>
        <c:lblOffset val="100"/>
        <c:noMultiLvlLbl val="0"/>
      </c:catAx>
      <c:valAx>
        <c:axId val="79403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4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21C-6ED5-42B0-A7CB-8EAA61F5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A85-790C-47B7-8BBA-B7F958F8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E2B-04AF-4DE1-A810-6DE5D1C8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191-A4AA-406B-81C9-A5DEA265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DE6-727B-4F09-9B5A-218BF41F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C7A-41AB-4BB7-BE86-D99C4A5A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C56-B923-4D00-B4C6-A37856B1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4EC-4717-4D2D-9849-2CBCD476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04A-D9E3-47D6-A7EB-35420507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472-D6F0-4EA7-97DC-BF3245B1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05D-07D0-4728-B079-7CE59C78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DF2-D4D3-4835-ADC7-D8BCF722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8AED3-6A44-4D37-8B2B-13033AB26A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