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93728"/>
        <c:axId val="78663173"/>
      </c:barChart>
      <c:catAx>
        <c:axId val="21793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63173"/>
        <c:crosses val="autoZero"/>
        <c:auto val="1"/>
        <c:lblAlgn val="ctr"/>
        <c:lblOffset val="100"/>
        <c:noMultiLvlLbl val="0"/>
      </c:catAx>
      <c:valAx>
        <c:axId val="78663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93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62B-1DDD-4B6F-ACEC-9B91B024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6B8-6A08-4616-B7FA-53BD8E54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E33-FF24-4467-83A6-1E7409CD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8A3-E1FE-4629-A316-EE6DE852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57C-4F52-49EA-AD8F-88FEDDE1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27E-06BB-4570-A4FF-077F111C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E58-FB12-45F9-BB58-2C84EFA8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A2E-43A6-4878-97B8-D12F4181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8C6-34E3-4969-893D-C7B92A17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CA4-58FD-453C-8331-0E968226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94A-155A-4D7A-944C-B5967CC3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CFA-FC91-4281-8F69-CD36BD03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574FF-5D5A-4CAD-9571-4F81752801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