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963925"/>
        <c:axId val="6283278"/>
      </c:barChart>
      <c:catAx>
        <c:axId val="999639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83278"/>
        <c:crosses val="autoZero"/>
        <c:auto val="1"/>
        <c:lblAlgn val="ctr"/>
        <c:lblOffset val="100"/>
        <c:noMultiLvlLbl val="0"/>
      </c:catAx>
      <c:valAx>
        <c:axId val="62832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9639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7042-879C-45D1-AA85-24CC58D59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44D8-04DB-4E82-BCDF-27655C0D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B100-7B5B-438B-99CC-4C5706918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E0AC-8C8A-4CF9-B6E6-91AA57BF2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E85A-BB9E-4778-A51C-D4075134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284A-E7FD-44AD-909D-BB4FC464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886A-3334-4796-8D75-4C045246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3563-576A-421B-8410-7B43A974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11D2-3207-4C44-894B-BD2D33A6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B9E3-F26D-4042-B47C-A1716397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1928-9111-4B13-9D5F-A32AD9A4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61BA-6EEA-4A25-BC22-F7C78BBB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8BFA1C-A730-45C6-8CE8-FD6EAE812A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