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181790"/>
        <c:axId val="82481887"/>
      </c:barChart>
      <c:catAx>
        <c:axId val="331817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481887"/>
        <c:crosses val="autoZero"/>
        <c:auto val="1"/>
        <c:lblAlgn val="ctr"/>
        <c:lblOffset val="100"/>
        <c:noMultiLvlLbl val="0"/>
      </c:catAx>
      <c:valAx>
        <c:axId val="824818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1817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AD41-5A65-44F0-9CC1-5D8DB3238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94E5-14DE-4AA7-9A31-C9267815D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F2E6-B9BD-475A-AC35-2D560AF71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C1F9-2DDC-46F0-BA24-681B4D108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7E63-C0A4-4F69-A411-2CD7CB741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5889-B662-456B-8D85-294A9CA85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93CA-F696-450D-9DB1-C3D9E3B38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7EDA-C9F4-403F-8D05-CC847FFF8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44E2-35F8-4939-9BBB-ED5D59915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9340-98AF-43A4-8AF9-742BC3DC6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715A-E12C-40E1-BCAB-D2FFE2348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C6E5-98A1-4157-BEBC-056AFF295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F7C4A9-10BB-4BB2-B279-67FB420AF67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