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0" y="0"/>
            <a:ext cx="0" cy="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565200" rIns="25560" tIns="0" bIns="-828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4400" spc="-1" strike="noStrike">
                <a:solidFill>
                  <a:srgbClr val="000000"/>
                </a:solidFill>
                <a:latin typeface="Arial"/>
              </a:rPr>
              <a:t>I am invisible</a:t>
            </a:r>
            <a:endParaRPr b="0" lang="en-US" sz="10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r Lillqvist</dc:creator>
  <dc:description/>
  <dc:language>en-US</dc:language>
  <cp:lastModifiedBy/>
  <cp:revision>0</cp:revision>
  <dc:subject/>
  <dc:title>Slide 1</dc:title>
</cp:coreProperties>
</file>