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13340"/>
        <c:axId val="49487097"/>
      </c:barChart>
      <c:catAx>
        <c:axId val="81613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87097"/>
        <c:crosses val="autoZero"/>
        <c:auto val="1"/>
        <c:lblAlgn val="ctr"/>
        <c:lblOffset val="100"/>
        <c:noMultiLvlLbl val="0"/>
      </c:catAx>
      <c:valAx>
        <c:axId val="49487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13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78E-F26A-4762-91BE-085ED463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F74-D77A-4681-AF59-0EAF8C16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D23-524A-4BAD-8462-E21B4013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AF3-C026-4BC5-B1AA-C6583077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547-DEB7-4E31-8D1F-74DAF844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762-7EA2-4D42-9BEE-7BB4F64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0C1-B125-4D7E-9403-A23F70EA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031-7D56-42E9-A7E7-A3A15202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48B-41B9-4678-9A9A-AEB2BAA6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F6E-48D1-43F4-BA1F-F1912780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59A-6C2E-404F-8646-CCAC78E3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658-431F-446E-85A5-B2CA263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587ED-4CA8-4267-9B96-9A28D7BEFD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