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351470"/>
        <c:axId val="93738445"/>
      </c:barChart>
      <c:catAx>
        <c:axId val="553514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38445"/>
        <c:crosses val="autoZero"/>
        <c:auto val="1"/>
        <c:lblAlgn val="ctr"/>
        <c:lblOffset val="100"/>
        <c:noMultiLvlLbl val="0"/>
      </c:catAx>
      <c:valAx>
        <c:axId val="9373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3514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0262-5D21-437A-94C8-A7174835B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4ACE-4C4F-44F3-828E-C31DB7611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61C-ABB7-4669-BB14-7AC97D8B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2E1-32F5-4AC6-B173-DFFB4237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9DA9-2D04-49A2-879F-DD1EF9FD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4847-A1DC-4DDB-BDA5-9FB6D13B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7C6-D530-4757-A6E0-F638CD410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793-8E15-4B8A-AD27-E95B1CEA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C75A-29E4-4AED-9F23-6B61ADD6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3885-62FF-4641-AF40-C742232A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53FD-B720-43B6-B21B-2D8D1D348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4765-8336-4DF5-81A6-F931CBB1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140DB-BAF1-4653-9F7E-A026866C0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