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58196"/>
        <c:axId val="59288128"/>
      </c:barChart>
      <c:catAx>
        <c:axId val="52858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88128"/>
        <c:crosses val="autoZero"/>
        <c:auto val="1"/>
        <c:lblAlgn val="ctr"/>
        <c:lblOffset val="100"/>
        <c:noMultiLvlLbl val="0"/>
      </c:catAx>
      <c:valAx>
        <c:axId val="59288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58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4EF-357E-468B-BE30-96604387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3BC-24D9-4D9E-AE96-E9873B0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02C-1682-425C-BEED-FD24EDC0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D3B-15B2-4C8B-8012-9B137148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A01-D543-4229-A3F1-A100697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518-494B-42F7-93AE-0B32D6FE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219-871B-4838-B25D-4A883330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FF6-54DD-4708-91CC-26A21E4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8EC-AB5A-46E3-BDBC-10B4EDA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2E8-77A1-471F-B92B-42154386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BDC-C107-4988-BF1C-B7FD77F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07F-6DCE-4A7D-AF96-D9A223F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CABE4-3555-4EF2-AF7A-A583A5ADB5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