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028103"/>
        <c:axId val="2385303"/>
      </c:barChart>
      <c:catAx>
        <c:axId val="68028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5303"/>
        <c:crosses val="autoZero"/>
        <c:auto val="1"/>
        <c:lblAlgn val="ctr"/>
        <c:lblOffset val="100"/>
        <c:noMultiLvlLbl val="0"/>
      </c:catAx>
      <c:valAx>
        <c:axId val="23853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28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855-7AF1-4CDA-BCD0-59FCAF28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20F-4A0D-41F4-81E0-FF948481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2D3-3A57-4156-85E4-0D401C40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F74B-628B-42C1-8BCD-60D48A20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B29-FA4E-40AC-AD9B-2A5F74F3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690A-F612-4135-B19A-B78BFB01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9926-294F-4145-942D-696EA5FB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28BC-8B54-4FD9-AFB0-BD4BC38A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92D8-B78F-4A37-A2C6-8B2FFDA5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8054-FCD8-4FC6-A80E-B7648028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940-DC14-45A5-85C2-C461F753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B84B-DEC6-407C-A49D-AC56641F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C0F46-4264-48EE-9360-6A8AC89300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