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86997"/>
        <c:axId val="52191850"/>
      </c:barChart>
      <c:catAx>
        <c:axId val="981869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91850"/>
        <c:crosses val="autoZero"/>
        <c:auto val="1"/>
        <c:lblAlgn val="ctr"/>
        <c:lblOffset val="100"/>
        <c:noMultiLvlLbl val="0"/>
      </c:catAx>
      <c:valAx>
        <c:axId val="521918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869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109-E44D-419C-A77B-A79A694F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1501-25D3-4E75-BA98-CE79F0C3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4AB-E36F-444F-AFAD-56EA20B5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46F-37E4-49B5-836D-6D412852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D64-B7E5-4A38-B272-699EEFCE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795-1197-4CEB-9CA0-9CDDD7BF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134-FAE8-4C22-B717-37060BAE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52F-A059-47B1-BA40-D01483C1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749-88E9-404D-9D34-D4ECBCF7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D544-7878-47A7-AD6E-37662390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8E8-048D-46BA-A200-D5DA1BF1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191C-2FA4-4687-8D73-71FD361B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DA3AF-9223-47BD-BDE3-4A28CDF423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