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004578"/>
        <c:axId val="16510070"/>
      </c:barChart>
      <c:catAx>
        <c:axId val="900045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10070"/>
        <c:crosses val="autoZero"/>
        <c:auto val="1"/>
        <c:lblAlgn val="ctr"/>
        <c:lblOffset val="100"/>
        <c:noMultiLvlLbl val="0"/>
      </c:catAx>
      <c:valAx>
        <c:axId val="16510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045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70B-29AD-4FE1-A648-16F9A005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6259-2E47-4191-AEEC-3A50E1E6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BC00-D1E2-47AB-BBC9-BBB6287B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E89-2FEC-425F-B10A-F6EAE4A0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188-7B8E-4AD1-9FFE-7F8BE739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FB92-B08C-4C29-9786-35D977A7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1F2C-8322-458A-8183-44EFDA88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2E8-4A0B-4AAB-9381-BB438E66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009C-0972-4C78-9A2E-280B313F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BAF-313E-4676-A8DB-4E037783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007-8A7C-4DFA-8DF6-A9846BCE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781-D2A1-4547-B436-923D4F58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BBE32-0545-4191-8013-3F5F67A4DE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