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04081"/>
        <c:axId val="81942657"/>
      </c:barChart>
      <c:catAx>
        <c:axId val="53204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42657"/>
        <c:crosses val="autoZero"/>
        <c:auto val="1"/>
        <c:lblAlgn val="ctr"/>
        <c:lblOffset val="100"/>
        <c:noMultiLvlLbl val="0"/>
      </c:catAx>
      <c:valAx>
        <c:axId val="819426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04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198-869A-42A2-80F9-4777D8DB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074-EB76-4C73-BEEC-2AAC4F8D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0D4-9603-4BD1-97F2-DAF6151A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51D-EA74-47C7-9793-F4355EFB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46B-47D3-4651-8693-8D5898EE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2DA-96C9-4065-BD4C-8DF84D6B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173-5DD2-47FA-8BBA-5F239013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D1E-23F7-4FC2-A347-E7FF040A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368-46A8-42B5-AD65-E4428547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CD6-F015-48D7-8D7F-178D732C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082-B772-4E30-AC56-1061AA1D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0B3-8A85-4D18-94BD-00744A84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B5BA6-C886-4365-95F2-6FBEEAB15A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