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65789"/>
        <c:axId val="83360881"/>
      </c:barChart>
      <c:catAx>
        <c:axId val="84965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60881"/>
        <c:crosses val="autoZero"/>
        <c:auto val="1"/>
        <c:lblAlgn val="ctr"/>
        <c:lblOffset val="100"/>
        <c:noMultiLvlLbl val="0"/>
      </c:catAx>
      <c:valAx>
        <c:axId val="83360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65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35D8-50C6-44DA-A340-E15311DD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74D2-0370-4F87-A22F-B1DC4D40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71CE-1C10-45C4-AF5E-338FBC36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9BB2-F64C-4159-9D12-B66F22B4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94A-5703-44BA-A7BA-FF2DBDF2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151-26EB-42DB-A52B-A11E05E9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0FE-E032-4633-BCCA-365C8496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B84-8ED0-4CB2-899A-5CDEAE3C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462-080D-4851-952C-EBAF5DC5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0E38-C22F-4C14-B87A-C869AC19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6600-A07D-42B3-8720-C83D152A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6C8-C841-4B22-978B-72A90E66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CDEF7-352D-46E9-B402-24916B9C31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