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78"/>
        <c:axId val="3468810"/>
      </c:barChart>
      <c:catAx>
        <c:axId val="910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8810"/>
        <c:crosses val="autoZero"/>
        <c:auto val="1"/>
        <c:lblAlgn val="ctr"/>
        <c:lblOffset val="100"/>
        <c:noMultiLvlLbl val="0"/>
      </c:catAx>
      <c:valAx>
        <c:axId val="3468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AFD-F8B1-4EFA-AF0B-B520D3E0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CB5-90F5-4806-BF05-7CCCC0B2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EB8-1FE5-45C3-82F1-E7350DBD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E82-2CCA-4042-9198-FA24D627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4D1-2866-4100-A9BC-90622B6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C0E-16B2-4BDC-85FB-CE3DA4D0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F57-7777-4EFC-BDFE-BCE994E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0CA-733A-41C1-9EE9-E91D439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F2E-F13A-449D-856E-5B09788A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909-8547-4028-B995-0AD9BCA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285-407D-455A-8427-63DFF79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B03-128E-4786-963E-A75BDB6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DF347-287C-48A8-A461-A85C432FAC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