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22037"/>
        <c:axId val="73626559"/>
      </c:barChart>
      <c:catAx>
        <c:axId val="76022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26559"/>
        <c:crosses val="autoZero"/>
        <c:auto val="1"/>
        <c:lblAlgn val="ctr"/>
        <c:lblOffset val="100"/>
        <c:noMultiLvlLbl val="0"/>
      </c:catAx>
      <c:valAx>
        <c:axId val="73626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22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8DC-ADEF-4F5F-B939-2AA05392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9A8-BEC6-468B-8E47-C03FB7D6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214-834C-4FCB-ADEB-94B0B040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F5C-6389-4587-AC38-767CE59F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B1F-7454-46BF-8BAA-E0200480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8462-8050-45DD-9C00-D944A1B3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807-C9E5-4DC5-A000-8A993434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F9BC-F13E-4947-B752-41B75E91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5419-57F2-417A-B380-AC505734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972-8C87-4AF9-86D1-F6FD0912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10F-9CBF-480B-A0D1-EA1F06ED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30E-FBAD-4C82-BF49-B2808365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7F40A-57B9-49E1-B2F8-4CFD51C63A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