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94676"/>
        <c:axId val="52119962"/>
      </c:barChart>
      <c:catAx>
        <c:axId val="89794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19962"/>
        <c:crosses val="autoZero"/>
        <c:auto val="1"/>
        <c:lblAlgn val="ctr"/>
        <c:lblOffset val="100"/>
        <c:noMultiLvlLbl val="0"/>
      </c:catAx>
      <c:valAx>
        <c:axId val="52119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4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58C-3FB4-4689-8779-FB068C1D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C55-0719-4F74-B379-F7233F3D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DCB-7920-40F7-A3D6-B317B6EE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CA7-8079-4C48-9383-EDD6CFF5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2CE-E813-4495-A323-504FF152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C7A-BCB6-48C2-B4A7-37310086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B02-B91A-4F08-95F6-B8A39E28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BAC-756B-4751-BD5D-DF809956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93F-D674-4CFC-AE62-7EF21B08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8B2-4B2F-4263-8F5B-DD2D6466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E4C-388F-4E65-9E6F-4CFA6B9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27E-8156-42D1-A3BF-4E475F7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1264B-B70B-4B3B-B9ED-3A5578E39A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