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44724"/>
        <c:axId val="68729568"/>
      </c:barChart>
      <c:catAx>
        <c:axId val="83844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29568"/>
        <c:crosses val="autoZero"/>
        <c:auto val="1"/>
        <c:lblAlgn val="ctr"/>
        <c:lblOffset val="100"/>
        <c:noMultiLvlLbl val="0"/>
      </c:catAx>
      <c:valAx>
        <c:axId val="687295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4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9DA8-AC57-4367-9A65-729FD7DA8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51F2-C722-42D2-A479-251FF409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BAF5-486A-4935-8D1A-64713761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4443-D25C-48CB-97E7-B36DD33D5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81B-98DB-43BC-A0FD-9AD511E4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7DFD-46CA-468B-AFE7-A0D88C9E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CC4-38B8-476A-A28E-2C5BA89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B357-E078-4F78-9DC4-14137967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105-C757-486A-B2C8-C32F91F9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53B-F2FA-4C23-ADBF-A6C03C61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015-3402-4EC1-994A-99D5D7C0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3650-F606-4137-9EDD-EB6703E2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68692-F808-429C-B6C7-D447EBCCCE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