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96089"/>
        <c:axId val="48233233"/>
      </c:barChart>
      <c:catAx>
        <c:axId val="56996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33233"/>
        <c:crosses val="autoZero"/>
        <c:auto val="1"/>
        <c:lblAlgn val="ctr"/>
        <c:lblOffset val="100"/>
        <c:noMultiLvlLbl val="0"/>
      </c:catAx>
      <c:valAx>
        <c:axId val="48233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96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02F-E588-49A6-8106-E9514086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813-83B0-476A-8397-C4C9F4A0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FE5-E69D-41A0-A741-75FBBC48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A89-E75A-4C0D-BB28-8A78E011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845-44D4-4B2E-8B6F-EACE1BBD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DD1-874E-4283-BC6C-D0314A3F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9DD-1D83-4D6B-B761-20731140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C66-2739-4025-944B-4AA42F0B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DB4-8B40-4EB0-A6C2-1AEE69BA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F23-4F68-4AA9-B168-0B5D97F7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936-1D10-4E52-B5AC-96CB564C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193-96A5-4E52-94FC-26FBEB10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75F79-E6E0-429C-B02E-02AB41A96A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