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21451"/>
        <c:axId val="20387909"/>
      </c:barChart>
      <c:catAx>
        <c:axId val="11921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87909"/>
        <c:crosses val="autoZero"/>
        <c:auto val="1"/>
        <c:lblAlgn val="ctr"/>
        <c:lblOffset val="100"/>
        <c:noMultiLvlLbl val="0"/>
      </c:catAx>
      <c:valAx>
        <c:axId val="203879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21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0C7-E0AF-45E6-889B-74B3D629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7B1-D4C7-4C09-AC4F-687FA0C2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A56-F02A-49AB-9F77-2255FAB7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C7D-CE1F-4388-B4B0-3008ED3E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44C-6E27-4C60-93C3-E2E2D0E3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92EC-432C-476A-9F46-D9F3BAB2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656B-7947-4EFA-AF5A-96553CD2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BA5-F396-4B9B-AAD9-6533877C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0605-7182-479F-9D6A-CBC5E631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6F4-E3DC-4BE3-A9B1-2142038A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58C-2C3D-4846-91E1-615B05E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783-BEAD-4B9F-BF1A-14376ADF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00251-DF6B-4143-ACB3-A5CE047210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