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19103"/>
        <c:axId val="1705717"/>
      </c:barChart>
      <c:catAx>
        <c:axId val="96719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717"/>
        <c:crosses val="autoZero"/>
        <c:auto val="1"/>
        <c:lblAlgn val="ctr"/>
        <c:lblOffset val="100"/>
        <c:noMultiLvlLbl val="0"/>
      </c:catAx>
      <c:valAx>
        <c:axId val="1705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9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567-85CC-488F-9F52-2A96856F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339-5078-4014-8480-5359C896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F47-9E2E-4D93-9323-011928F0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23C-4B7B-4E3D-A0DD-0FB53B86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84D-EA38-4E6F-8CE8-049678D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056-AE45-4CF0-BA6F-8042DE7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B69-95CC-4182-8DE9-25C07E7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492-C881-4C53-894B-C3904B7A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774-A928-4B65-9636-2B7F0F18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B3F-DAA6-4EFC-AEFC-34276F4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B11-E1AE-4A28-8634-D93BAF73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424-7FAD-46DE-8153-1D93CEB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7175C-290A-4D3A-9A1C-1DAFFA9DA8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