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24911"/>
        <c:axId val="26790870"/>
      </c:barChart>
      <c:catAx>
        <c:axId val="41224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0870"/>
        <c:crosses val="autoZero"/>
        <c:auto val="1"/>
        <c:lblAlgn val="ctr"/>
        <c:lblOffset val="100"/>
        <c:noMultiLvlLbl val="0"/>
      </c:catAx>
      <c:valAx>
        <c:axId val="26790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24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A0A-459E-4764-9728-9B0CE5EB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84D-2429-4FB1-9D89-244C867B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397-309D-438A-BDC3-9CA9A485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E60-8400-4853-924E-FD3C82A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2AF-2229-4A7B-B174-AACB99A5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1E5-AB2E-454A-8FFD-A4EA119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385-DAE3-4686-93E9-0C264F14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EAA-C36D-453B-8A8D-D48DD9A5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E38-50E5-4669-A7F6-9B3F8428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240-ACFB-4450-83AB-74F2420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8B3-91ED-4BE5-BF33-A570E07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DFC-70B6-456A-9EF3-4791A74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1682-4C5A-4552-9CAF-AD199761D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