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65159"/>
        <c:axId val="64873687"/>
      </c:barChart>
      <c:catAx>
        <c:axId val="48865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73687"/>
        <c:crosses val="autoZero"/>
        <c:auto val="1"/>
        <c:lblAlgn val="ctr"/>
        <c:lblOffset val="100"/>
        <c:noMultiLvlLbl val="0"/>
      </c:catAx>
      <c:valAx>
        <c:axId val="64873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65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516-0B7C-40F6-ADC4-8EB7B4EE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B11-362B-4769-BE19-893D025C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137-BDEF-42A0-8DB4-2264DAFD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CF2-E78C-484E-B4AF-89B85CB8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F4B-D84A-4CD4-92C3-0FC3DEA8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407-7CD0-4FCF-BC0D-155552F6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FA5-050D-41BA-9A1E-95B07E56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AF2-0AD6-43F4-AC76-19FCBFA1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260-8891-43A8-9A44-9E645ECD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19E-8963-403D-98A6-9459692D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399-4628-4D61-82F3-BB46E403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6A7-CB5E-44B0-AB89-44DC52B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84654-0AD4-44BE-9F5F-DAF88EF9D0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